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AFB1-38ED-4E62-9EE1-2262A054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49A2-C338-4641-B89D-5F6CCBA2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361C-5533-4626-ABBD-E971F6F7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6551-DFBC-4381-97E4-433FA439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16D3-8BA2-4EA8-A3A2-F46F060A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13BD-9942-4B30-A1C8-3768652E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EEC2-6D9B-4C6B-8781-F46A0BF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F3D3-8519-4FA4-B381-003B5C7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69C1-435F-49B4-B30D-1F2986B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5F29-4305-46B3-A740-4AD43F1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7B15-EBE6-4456-A9A3-7CCB4867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9C97-E774-4475-813B-3BFD5384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36C-15EB-4A6D-935F-F715E4C2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A21-5128-4870-920B-CB94940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BC88-3B6B-45AC-8D59-2446462D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ED0-DBF0-41D7-AC94-5F8C5EA7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2333-2750-4C43-B72D-54678A4E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5508-403B-4EBC-B59F-4B63B1E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F29E-E23C-418D-85CF-1E6A9AC8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0FA6-74F9-4FD1-835F-A181A2E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28E7-FD4C-4F2B-8C46-8B4B670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8B35-1E53-4C31-B7C1-15C1C594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C374-4E72-49B1-9037-49D666BA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D9D5-A160-4FD7-A0A0-8A5EAE33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28C-133C-44A9-B47B-0ACCC1D78A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881-7995-484C-B472-31E4667FF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84720" y="5516280"/>
            <a:ext cx="2602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Trabalho realizado p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António Tavares n 2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Samuel Duarte n 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543480" cy="227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Capital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826240" cy="437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opul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20500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Population (2009 est.): 491,775 (growth rate: 1.1%); birth rate: 11.7/1000; infant mortality rate: 4.5/1000; life expectancy: 79.3; density per sq km: 18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angu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anguage is German,French and Luxembo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w to get the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b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pl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t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89160" cy="203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hotos of the Cou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5480" y="0"/>
            <a:ext cx="336852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3580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Interesting places to vis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465280" cy="328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ullerth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4648320" cy="32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5157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Arden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23:37Z</dcterms:created>
  <dc:creator>Utilizador</dc:creator>
  <dc:description/>
  <dc:language>en-US</dc:language>
  <cp:lastModifiedBy>Utilizador</cp:lastModifiedBy>
  <dcterms:modified xsi:type="dcterms:W3CDTF">2009-11-11T12:56:41Z</dcterms:modified>
  <cp:revision>3</cp:revision>
  <dc:subject/>
  <dc:title>Luxembourg</dc:title>
</cp:coreProperties>
</file>